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3AAD-7D7C-4852-8CEB-EF589B7BB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C8A5-7372-4D12-9ECB-E718859B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08DC-212F-401A-8FB7-2403B8335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8125-ED78-4DA8-B60B-2585043EF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C53D-179F-4284-B952-4B164A85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A747-2E85-4358-8241-6BBA19B4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A5C0-4716-4A94-A472-0243D305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EC61-DA0A-45F6-ABD6-4C475172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BC80-5CAB-4755-8C68-2FB68096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E6BA-5CFA-4768-9109-85D09933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A8EB-20E4-489E-87BE-A979FA30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CA2D-D0E4-45BF-9EB9-D66424BE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f66"/>
            </a:gs>
            <a:gs pos="100000">
              <a:srgbClr val="ffad8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7235-2701-4F11-A1B9-EE8D1FFD0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f66"/>
            </a:gs>
            <a:gs pos="100000">
              <a:srgbClr val="ffad8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in a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f66"/>
            </a:gs>
            <a:gs pos="100000">
              <a:srgbClr val="ffad8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.  Forming &amp; Breaking Down AT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.  Why doesn’t a cell have to store a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ATP it nee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TP has a formation/breakdow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ycling relationship with ADP - 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as phosphate groups 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ilable, more ATP can be quick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f66"/>
            </a:gs>
            <a:gs pos="100000">
              <a:srgbClr val="ffad8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I. Uses of Cell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rve Cells: use ATP to move ions &amp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mit nerve impul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flies: produce light (bioluminescence)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breakdown of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dneys:  move molecules &amp; ions to elimin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 while retaining nutr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f66"/>
            </a:gs>
            <a:gs pos="100000">
              <a:srgbClr val="ffad8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N A CELL - 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o biological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ells require energy.  A quick source of energy that cells use the the molecule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AT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The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energ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is molecule is stored in its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hemical bon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 ATP is composed of an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aden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lecule bonded to a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ribo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gar.  Three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harg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lecules called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phosph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oups are attached to the sug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f66"/>
            </a:gs>
            <a:gs pos="100000">
              <a:srgbClr val="ffad8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N A CELL - 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energy stored &amp; released by AT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that is used to add a phosphate group to ADP becomes stored in the chemical bond in the resulting ATP molecule.  The stored energy is released when ATP is broken down into ADP and a phosphate group is released (cut off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f66"/>
            </a:gs>
            <a:gs pos="100000">
              <a:srgbClr val="ffad8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N A CELL - 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cells use the energy rele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T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ways - making new molecules, maintaining homeostasis, transmitting nerve impulses, movement, producing light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f66"/>
            </a:gs>
            <a:gs pos="100000">
              <a:srgbClr val="ffad8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f66"/>
            </a:gs>
            <a:gs pos="100000">
              <a:srgbClr val="ffad8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.  Cell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Energy is required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ctive 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ell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movement of flagella or ci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production, transport, &amp; storage of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muscle con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heart pum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brain controlling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f66"/>
            </a:gs>
            <a:gs pos="100000">
              <a:srgbClr val="ffad8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.  How do consumers obtain energ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eat plants or animals that eat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f66"/>
            </a:gs>
            <a:gs pos="100000">
              <a:srgbClr val="ffad8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. ATP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olecule present in all living things that stores energy in a useable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f66"/>
            </a:gs>
            <a:gs pos="100000">
              <a:srgbClr val="ffad8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.  Forming &amp; Breaking Down AT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Structural difference between ATP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AD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TP has 3 phosphate groups &amp; AD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only 2 phosphate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f66"/>
            </a:gs>
            <a:gs pos="100000">
              <a:srgbClr val="ffad8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.  Forming &amp; Breaking Down AT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Molecules in both ATP &amp; AD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denine, ribose, and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f66"/>
            </a:gs>
            <a:gs pos="100000">
              <a:srgbClr val="ffad8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.  Forming &amp; Breaking Down AT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Which structure has more sto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TP;  energy is stored in the bonds that link one phosphate group to another and ATP has 3 of these bonds whereas ADP has only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f66"/>
            </a:gs>
            <a:gs pos="100000">
              <a:srgbClr val="ffad8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.  Forming &amp; Breaking Down AT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Converting ADP to AT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 phosphate group is added to A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his requires an input of energy, whi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stored in the new phosphate bond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is a by product of this re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f66"/>
            </a:gs>
            <a:gs pos="100000">
              <a:srgbClr val="ffad8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.  Forming &amp; Breaking Down AT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Converting ATP to AD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Water is used to remove a phosph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from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s the phosphate group is remove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stored in the bond is releas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4:43:27Z</dcterms:created>
  <dc:creator>Clayton Johns</dc:creator>
  <dc:description/>
  <dc:language>en-US</dc:language>
  <cp:lastModifiedBy>NHS NPS</cp:lastModifiedBy>
  <dcterms:modified xsi:type="dcterms:W3CDTF">2011-10-28T17:46:17Z</dcterms:modified>
  <cp:revision>6</cp:revision>
  <dc:subject/>
  <dc:title>Energy in a Cell</dc:title>
</cp:coreProperties>
</file>